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B17-7CD2-4885-913A-4A191428C5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843-4ADE-4458-8387-8B87294FAEA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0509-BEA4-4419-B5D6-710BDF6F456A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5E9-A038-43B6-9988-037ABC30F27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AE8-B0BE-4EE1-A6FF-EA50B1B9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9DE-67F3-4213-835A-11D9D648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F2C-B628-4B91-9CAF-22742DFD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86C-6923-4F89-8591-CBD0C842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A6DA-2140-498B-A8B2-8BD0D189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5718-4E54-4E8B-B536-04A532E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07DA-E8E0-4099-A288-FC2BC9EC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6D64-6D2E-4ACF-B812-A34F10F2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BE85-C252-48AC-9BEB-8C4F6185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3C8-0D1A-427C-B575-9316820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C237-2F18-4E1B-B864-15A9B875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798-9077-4F64-B824-DC799D9A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8E42-182F-48FA-9EED-F3E52BAA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E0B-ACD6-4363-BC2F-89D55C7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61CA-7065-4563-AB19-24515F92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0875-04E6-4643-A1BD-20B66A58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5075-E723-40AF-9EB8-F5795B2B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719D8-A738-4544-B988-4AC91E99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8B51B-69D0-40C4-9CC8-58771546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3B629-4DD1-4A16-BA72-48FDA2DC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189BD-04D1-4E61-A09D-5FFACFDC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30B37-E0E0-4B87-9D30-5EB26DCF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4ED-409D-4681-9D8B-948AAE7F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F777C-E284-44A2-9851-6E37854A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27E0C-F8A8-418C-A4B8-34B83B65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BF513-19D4-4F49-AE48-ACC6505E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C763B-F328-455F-AF45-C15C5EA4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CC013-EEE5-4877-9DD9-56CB01F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7EE49-9E5F-46C9-B7F1-FC7B73D2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10CCC-6103-46D6-9A6D-E357BB82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B5F9-11A7-4649-9740-174273D2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F6E2-BD78-46D0-A08A-0D6AED2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49EE-C378-4A9F-B650-9972E05F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2AA-4085-4A45-AC56-7A77AE6C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EABD-6F8E-45E5-A761-DC83304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E24E-BBBD-4E87-B950-0C31A86A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CD1D-B4CE-47C2-8D02-A64B3AAD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FA41-683C-4018-8089-B32530DB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3283-BD39-4021-8581-7906E68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3A24-5377-41E5-BBD9-54A1F399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E602-919C-44FC-B861-FC3F5C48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6D56-9DE7-4612-98C5-3F1AF8AE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EEA8-8D9F-417C-A18B-07927BB1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4F05E-66F9-490D-A166-A462D61F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778-4D95-40BD-A8A9-93D3D26E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43A25-58FE-48DF-B6AB-70F6C36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3662A-554C-4BF4-97EC-B0F9D78C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D4271-0E17-4AEB-A3FD-4455C20A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11E5E-AD0A-4960-8230-301A08E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9B72CB-9E5F-453F-B0A6-2FB396B0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44186E-B00E-45AF-872A-A07A8A7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9FD0DB-D088-4F07-892F-0FC31544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8F148B-FEEF-4E28-8DC0-1E8F5FA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6CDED-AA24-48DA-B6A9-C820393F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9692B-4A56-4660-BBF2-EF95DBD4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D49-1B03-48C2-9F0A-3575911C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7CBAA4-21EB-47A0-9C6A-001EB8CB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3EF3A-E5BF-4DE8-A6A4-E508A5FB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17D17-EF6F-40C4-B3FF-7AAC1152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C9F4B-8DD1-4247-A6C6-5F6F9084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2DF25-EF78-4237-8371-6039D4D9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3824E-9B66-4F3A-AE0A-E0D13C8F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B02FF-BEBA-493D-A34C-021D840F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DE1A0-4E52-406D-ACD8-9D15786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70036-B403-42D5-8712-EB6EBD11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BD1C5-6ED0-4E2C-B530-C9DBCF2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46D-329E-408F-9284-AC50FA2F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219FA-03B6-4462-9FA6-A0477908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302AF-37EB-45C9-87C8-C6856979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DF22C-B681-4CC4-86F7-D051DA79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FA53-6B8B-44F7-8B2F-93309781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56BC-E083-4CBC-815C-E41C083E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B63DA-D61E-4B7E-A35B-1C7F317B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A242-7F75-46EE-861A-F73ECAC8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661C-C052-4C0D-A4CC-88B2FD49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67873-51E6-463C-AD55-34342105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BB7C8-BE91-4D4E-8D28-F3407341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23C-7D65-4C47-B9B2-1C62DC0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2667-4F59-4DE3-ACC4-71070B4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E591-0BF9-461E-8C8D-2774164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D53CF-19F7-4185-A64E-030086F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A4A0-A637-4358-8E94-04D1C66B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C9D52-8CEA-424C-A120-0C8A4DD3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F7F43-41DE-4599-928A-F740EDE5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9D8E66-2094-41BE-A530-99BC482B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0FF167-B396-4B66-8E07-E479E9F3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C6A7CB-F4DC-49B1-87B6-9BB79F3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5C9DE-A1C5-4971-9F5E-B574E771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9F6-D770-4C8A-BBEC-3249166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FF1EDA-19E4-4D61-B52E-3FFA92D8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1BEF96-F242-46B2-84AC-F92F90C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3308B-28FB-4219-BC51-CFF34D0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A8DF8-E94F-4625-B968-8754CBE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099C57-92E1-47C8-9165-54C14CAB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03447B-7753-43AD-8EE0-42D94FA3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39A258-E4F2-486A-AF1F-CFC46056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F88B-910B-41D8-9138-B1E76A9E3E97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5A2B-08E9-4F13-8D5A-BDEC5DAF1A95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6F9E-B706-497E-8B81-823D06B10E92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972-1C8B-421D-881B-E3E89680F099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EC0-9177-474B-82CF-3451671DDCB5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22C7-AFA3-452B-A9C4-DFEB52C73EB0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B9E4-C5BE-44CA-8515-BD0C72735386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726D-AB37-4AC7-B966-A812E96C5522}" type="slidenum">
              <a:rPr b="0" lang="de-DE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284640"/>
            <a:ext cx="8305920" cy="90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6600"/>
                </a:solidFill>
                <a:latin typeface="Calibri"/>
              </a:rPr>
              <a:t>Comment orienter mon enfant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773360"/>
            <a:ext cx="8302680" cy="1427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" descr=""/>
          <p:cNvPicPr/>
          <p:nvPr/>
        </p:nvPicPr>
        <p:blipFill>
          <a:blip r:embed="rId2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781360"/>
            <a:ext cx="50515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gauche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droite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chance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courageux, 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(puis)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fort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0" y="26208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5435640" y="2781360"/>
            <a:ext cx="4392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inis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e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Fort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For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7840800" y="9360"/>
            <a:ext cx="1322280" cy="19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2781000"/>
            <a:ext cx="66358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forgeron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meunier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cordonnier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(fils) du marchand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(fils) du citadin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5003640" y="2781360"/>
            <a:ext cx="295308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Fa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ol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u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ercat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Urb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7808760" y="0"/>
            <a:ext cx="132264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60440" y="2491920"/>
            <a:ext cx="54468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47240" indent="-1472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non dicas » 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(latin vulgaire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147240" indent="-1472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prosit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147240" indent="-1472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hoc est corpus (meum)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147240" indent="-1472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(com)</a:t>
            </a:r>
            <a:r>
              <a:rPr b="0" lang="fr-CH" sz="3200" spc="-1" strike="noStrike" u="sng">
                <a:solidFill>
                  <a:srgbClr val="000000"/>
                </a:solidFill>
                <a:uFillTx/>
                <a:latin typeface="Calibri"/>
              </a:rPr>
              <a:t>bur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ere 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(brûler)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147240" indent="-1472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Doxale 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(chant à la gloire de Dieu)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147240" indent="-1472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Wie Leder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0" y="37800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4"/>
          <p:cNvSpPr/>
          <p:nvPr/>
        </p:nvSpPr>
        <p:spPr>
          <a:xfrm>
            <a:off x="5770440" y="2492280"/>
            <a:ext cx="33735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Nondikas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Hokuspo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Buergbre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*Ducksall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(Dux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Vile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7819920" y="0"/>
            <a:ext cx="132264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ur base des résultats de 7e, particulièrement en français (surtout grammaire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utres critères : résultats en math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ravail régulier, effort supplémentair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Le choix des autres n’est pas un critère !! Pour voir les amis, il y a la récréation et la pause de midi 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9080" y="54936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7821720" y="20520"/>
            <a:ext cx="132084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1160" y="23162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as de difficultés en françai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Enfant curieux de tout nouveau savoir, notamment en langu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Ne rechigne pas à l’effor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ait bien organiser son temp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6480" y="54936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7640" y="223632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Facilités accrues en français (origine des mots, structures grammaticales, enrichissement du vocabulaire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Apprentissage plus rapide d’autres langues romanes : italien, espagnol, portuga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Favorise le raisonnement logique (utile aussi pour des branches comme les math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limat de travail stimula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-12600" y="26208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7821720" y="1440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8440" y="242064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Numerus clausus dans les universités : </a:t>
            </a:r>
            <a:r>
              <a:rPr b="0" lang="fr-CH" sz="2800" spc="-1" strike="noStrike">
                <a:solidFill>
                  <a:srgbClr val="ffffff"/>
                </a:solidFill>
                <a:latin typeface="Calibri"/>
              </a:rPr>
              <a:t>https://www.lmrl.lu/wp/wp-content/uploads/2018/07/Latin.pdf</a:t>
            </a:r>
            <a:r>
              <a:rPr b="0" lang="fr-CH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ffffff"/>
                </a:solidFill>
                <a:latin typeface="Calibri"/>
              </a:rPr>
              <a:t>https://www.yumpu.com/fr/document/view/26930398/lien-vers-la-brochure-connaissances-en-latin-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Marché de l’emploi : argument supplémentair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30240" y="18900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0" y="2637000"/>
            <a:ext cx="8229600" cy="37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Horaires et programmes :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http://portal.education.lu/programm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ite de l’Association luxembourgeoise pour la défense du latin : </a:t>
            </a:r>
            <a:r>
              <a:rPr b="0" lang="fr-CH" sz="3200" spc="-1" strike="noStrike">
                <a:solidFill>
                  <a:srgbClr val="ffffff"/>
                </a:solidFill>
                <a:latin typeface="Calibri"/>
              </a:rPr>
              <a:t>www.prolatinitate.l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m.faz.net/aktuell/beruf-chance/campus/latein-tot-aber-nuetzlich-14881843.html?GEPC=s5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6480" y="18900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0" y="212832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À conseiller aux élèves appliqués et suffisamment doué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Une initiation fascinante à la mythologie, à la civilisation de l’Antiquité et à l’histoire européenn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0" y="102024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Calibri"/>
              </a:rPr>
              <a:t>Grille horaire traditionnel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Latin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Angl. class.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Anglais moder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6h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0h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6h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: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4,5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4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5,5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3h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5h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      4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Calibri"/>
              </a:rPr>
              <a:t>Projet de grille horaire au Lycée Michel-Rodange pour 2019-202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Latin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Angl. class.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Anglais moder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5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3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6h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: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4,5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4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5,5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4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  4h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4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Même nombre de leçons en 6</a:t>
            </a:r>
            <a:r>
              <a:rPr b="0" lang="fr-CH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: les 3h/sem. d’anglais en 6</a:t>
            </a:r>
            <a:r>
              <a:rPr b="0" lang="fr-CH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proviennent du latin, du français (1h) et de l’histoire (1h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0" y="493560"/>
            <a:ext cx="8229600" cy="543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7821720" y="-1440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-14400" y="549360"/>
            <a:ext cx="8713800" cy="66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6600"/>
                </a:solidFill>
                <a:latin typeface="Calibri"/>
              </a:rPr>
              <a:t>Latin en 3</a:t>
            </a:r>
            <a:r>
              <a:rPr b="1" lang="fr-CH" sz="2400" spc="-1" strike="noStrike" baseline="30000">
                <a:solidFill>
                  <a:srgbClr val="ff6600"/>
                </a:solidFill>
                <a:latin typeface="Calibri"/>
              </a:rPr>
              <a:t>e</a:t>
            </a:r>
            <a:r>
              <a:rPr b="1" lang="fr-CH" sz="2400" spc="-1" strike="noStrike">
                <a:solidFill>
                  <a:srgbClr val="ff66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Calibri"/>
              </a:rPr>
              <a:t>Nécessaire pour obtenir un diplôme « classique » 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Le latin (3h/sem.) remplace le cours à option (2h/sem.) et une leçon supplémentaire. Même cours d’angl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6600"/>
                </a:solidFill>
                <a:latin typeface="Calibri"/>
              </a:rPr>
              <a:t>Latin en 2</a:t>
            </a:r>
            <a:r>
              <a:rPr b="1" lang="fr-CH" sz="2400" spc="-1" strike="noStrike" baseline="30000">
                <a:solidFill>
                  <a:srgbClr val="ff6600"/>
                </a:solidFill>
                <a:latin typeface="Calibri"/>
              </a:rPr>
              <a:t>e</a:t>
            </a:r>
            <a:r>
              <a:rPr b="1" lang="fr-CH" sz="2400" spc="-1" strike="noStrike">
                <a:solidFill>
                  <a:srgbClr val="ff6600"/>
                </a:solidFill>
                <a:latin typeface="Calibri"/>
              </a:rPr>
              <a:t> et en 1</a:t>
            </a:r>
            <a:r>
              <a:rPr b="1" lang="fr-CH" sz="2400" spc="-1" strike="noStrike" baseline="30000">
                <a:solidFill>
                  <a:srgbClr val="ff6600"/>
                </a:solidFill>
                <a:latin typeface="Calibri"/>
              </a:rPr>
              <a:t>re</a:t>
            </a:r>
            <a:r>
              <a:rPr b="1" lang="fr-CH" sz="2400" spc="-1" strike="noStrike">
                <a:solidFill>
                  <a:srgbClr val="ff6600"/>
                </a:solidFill>
                <a:latin typeface="Calibri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Pas nécessaire pour obtenir un diplôme « classique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Calibri"/>
              </a:rPr>
              <a:t>Section A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400"/>
            </a:b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Le latin (3h/sem.) remplace le cours à option (2h/sem.) et une leçon supplément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Calibri"/>
              </a:rPr>
              <a:t>Autres sections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Le latin (3h/sem.) remplace un autre cours de langue (allemand, français, angla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5560" y="1517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Latin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      Angl. class.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Anglais moder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:   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 :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 (A: 4)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même cours!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 (A: 4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fr-CH" sz="2600" spc="-1" strike="noStrike" baseline="30000">
                <a:solidFill>
                  <a:srgbClr val="000000"/>
                </a:solidFill>
                <a:latin typeface="Calibri"/>
              </a:rPr>
              <a:t>re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 (A: 4)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même cours!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3 (A: 4)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23760" y="14616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7821720" y="-144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4400" y="2165040"/>
            <a:ext cx="8229600" cy="26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Traduc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Étude de la grammaire : analyse et synthèse, conjugaison, </a:t>
            </a:r>
            <a:r>
              <a:rPr b="0" i="1" lang="fr-CH" sz="2400" spc="-1" strike="noStrike">
                <a:solidFill>
                  <a:srgbClr val="000000"/>
                </a:solidFill>
                <a:latin typeface="Calibri"/>
              </a:rPr>
              <a:t>déclinais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(rem. : orthographe archifacile !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Histoire, mythologie et civilis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Étymologie (origine des mots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30240" y="18900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781380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1915920"/>
            <a:ext cx="476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Horch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Je roule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Peut-être assez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D’abord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Enseignes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Je pars (en voyage)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0" y="-3024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4859280" y="1981080"/>
            <a:ext cx="33130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u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Vol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Vel Sa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sig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783756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2781360"/>
            <a:ext cx="35384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Je touche 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La voix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 Du chemin 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« Neigeuse 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0" y="51768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4"/>
          <p:cNvSpPr/>
          <p:nvPr/>
        </p:nvSpPr>
        <p:spPr>
          <a:xfrm>
            <a:off x="4211640" y="2781360"/>
            <a:ext cx="41036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a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V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tine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Niv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In vino veritas 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Urbi et orbi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Te Deum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tabula rasa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Quo vadis?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Divide et impera!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Cogito, ergo sum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Alea jacta est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Veni, vidi, vici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Citius, altius, fortius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modus vivendi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modus operandi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« persona non grata 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0" y="29196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783288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2349360"/>
            <a:ext cx="584352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« Mens (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nima) 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ana 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orpore 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ano 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« Victoire » </a:t>
            </a:r>
            <a:r>
              <a:rPr b="0" i="1" lang="fr-CH" sz="2800" spc="-1" strike="noStrike">
                <a:solidFill>
                  <a:srgbClr val="000000"/>
                </a:solidFill>
                <a:latin typeface="Calibri"/>
              </a:rPr>
              <a:t>(grec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« d’un pied rapide 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« pour tous 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« Jeunesse » (Esch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Aquarius, Punica (Punica arbos = grenadier), Viva, Spa (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anitas 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r </a:t>
            </a: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quas ?), senior, junio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0" y="11592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6300720" y="2349360"/>
            <a:ext cx="266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vélo(cipè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(omni)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uventus (Tur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7821720" y="0"/>
            <a:ext cx="1322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</dc:creator>
  <dc:description/>
  <dc:language>en-US</dc:language>
  <cp:lastModifiedBy>TEST STUDENT</cp:lastModifiedBy>
  <dcterms:modified xsi:type="dcterms:W3CDTF">2019-06-12T15:18:31Z</dcterms:modified>
  <cp:revision>120</cp:revision>
  <dc:subject/>
  <dc:title>PowerPoint Presentation</dc:title>
</cp:coreProperties>
</file>